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1.wmf" ContentType="image/x-wmf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48.jpeg" ContentType="image/jpeg"/>
  <Override PartName="/ppt/media/image78.png" ContentType="image/png"/>
  <Override PartName="/ppt/media/image50.wmf" ContentType="image/x-wmf"/>
  <Override PartName="/ppt/media/image2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png" ContentType="image/png"/>
  <Override PartName="/ppt/media/image15.png" ContentType="image/png"/>
  <Override PartName="/ppt/media/image80.png" ContentType="image/png"/>
  <Override PartName="/ppt/media/image8.png" ContentType="image/png"/>
  <Override PartName="/ppt/media/image38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58.wmf" ContentType="image/x-wmf"/>
  <Override PartName="/ppt/media/image24.png" ContentType="image/png"/>
  <Override PartName="/ppt/media/image61.png" ContentType="image/png"/>
  <Override PartName="/ppt/media/image59.wmf" ContentType="image/x-wmf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57.wmf" ContentType="image/x-wmf"/>
  <Override PartName="/ppt/media/image74.png" ContentType="image/png"/>
  <Override PartName="/ppt/media/image73.png" ContentType="image/png"/>
  <Override PartName="/ppt/media/image72.png" ContentType="image/png"/>
  <Override PartName="/ppt/media/image3.wmf" ContentType="image/x-wmf"/>
  <Override PartName="/ppt/media/image71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57640" y="510840"/>
            <a:ext cx="3395520" cy="25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2858D2-4351-454A-AAD6-D251D32B9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131E82-FC21-4141-B4B1-94D97FA2F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190F6D-1305-4A9A-8F48-F97931DE8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67050E-535D-46A0-A2F8-60C6248E3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BFAF48-BD40-47D5-8264-907A387F4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D90DB8-4939-42B0-85AF-5CE2770F9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370E69-3A78-487E-A7CF-CAB7133EC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937020-A84F-42B5-96DC-C40B9239D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A64AB3-97F9-4332-8EBC-4809678C7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A1D73D-E3D9-40D7-8A48-292A27AC0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FB6F46-4B84-4558-94CB-3454983AA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92CB49-88A6-4539-9D3A-D5245A725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DCD077-4016-4F56-895C-5EEAAE33B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B0C579-1D17-49F3-8743-1DAEAC28A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D70332-2374-47D3-8945-C81009FD2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08AB65-9B64-4263-A2D5-645D26CB1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268800" y="520560"/>
            <a:ext cx="3379680" cy="25354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2280" y="3230280"/>
            <a:ext cx="7258320" cy="30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751-FCE6-424A-AFD8-DC79DD1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612-B542-497B-8C07-BC4E9E53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CC0-B2C9-46D9-A9A2-429EEE7C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FA8-3BEF-42BC-BA0C-D56A6445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45B-0889-4011-95CC-4BB32B9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7AA-273B-453E-A14E-D010FFA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7598-6992-4C56-9751-651DDDBC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845-8F58-4130-95B4-54CE8E9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9B8-3B6D-4912-8A3C-44A3C825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048-0067-452D-828D-07D9CF49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BB46-FA17-4F5A-8C35-354664F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8AB-2904-43DD-B591-0492383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A58A-6AF2-4EF2-9E09-0990B53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BA7-ADDC-4C17-B01D-1AD7FA2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D4C9-5B7E-471F-96CA-BEAEE1F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7934-343A-4CC0-9895-8EA55B9F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76F-A540-4CB0-A6DA-E96B8648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49C-2962-4E22-B23F-D9A85BF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419-97BA-4990-80D0-62291C3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11E-CC61-4347-BF82-DCDAC1A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F75-D4E0-4895-9FDC-F4335AF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877-76F5-4946-9443-16AC595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745-06A7-4277-AE5E-E40383AC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E43-FAF4-4310-BEE3-C198E7F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05E0-C601-4B58-AA5F-8BEBA97D9BAD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675-D3C4-44FF-94BE-0520BA60FE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ED6-C50B-4836-B02E-CFB8C6AE915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F734-0CA9-41E3-8F11-891564ABF8E3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4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Verdana"/>
              </a:rPr>
              <a:t>Robot Loc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BE51-ECB5-4B53-8171-EF0364D2F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2)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027-E09D-4B6E-A693-35A658BBC3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89A-89FD-4B5D-91AB-0D20BEE25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: First Order Taylor Series Expans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96840" y="2097000"/>
                <a:ext cx="5457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73160" y="4430880"/>
                <a:ext cx="36082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BE8-2D00-48D1-B814-9360D666C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532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tended_Kalman_fil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81040" y="2500200"/>
                <a:ext cx="17812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54040" y="2924280"/>
                <a:ext cx="2160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333440" y="4029120"/>
                <a:ext cx="32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06520" y="4452840"/>
                <a:ext cx="2732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34960" y="4857840"/>
                <a:ext cx="20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23080" y="5500800"/>
                <a:ext cx="1946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81520" y="5510160"/>
                <a:ext cx="1495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31080" y="2476440"/>
                <a:ext cx="2017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12000" y="2924280"/>
                <a:ext cx="2112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50080" y="4029120"/>
                <a:ext cx="3039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7204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99292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4847760" y="272412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47760" y="3191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24080" y="4334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933800" y="4714920"/>
            <a:ext cx="89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14720" y="514368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B1F-9DD6-4A37-B27B-3E35C6C35B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KF_localiz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65320" y="5796000"/>
                <a:ext cx="178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65320" y="6183360"/>
                <a:ext cx="2778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60560" y="934920"/>
                <a:ext cx="45892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'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65320" y="3068640"/>
                <a:ext cx="330840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θ</m:t>
                                        </m:r>
                                        <m:r>
                                          <m:t xml:space="preserve">'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19280" y="4811760"/>
                <a:ext cx="3157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058720" y="4908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on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4680" y="169848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10920" y="581328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34680" y="6203880"/>
            <a:ext cx="38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76800" y="371808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C34-5D2F-48B0-BA3C-60F2DEECE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KF_localiz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54240" y="5519880"/>
                <a:ext cx="2350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254240" y="5992920"/>
                <a:ext cx="20415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54240" y="2637000"/>
                <a:ext cx="4124160" cy="12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ϕ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μ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254240" y="1424160"/>
                <a:ext cx="3611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m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μ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m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acc>
                                                <m:accPr>
                                                  <m:chr m:val="¯"/>
                                                </m:accPr>
                                                <m:e>
                                                  <m:r>
                                                    <m:t xml:space="preserve">μ</m:t>
                                                  </m:r>
                                                </m:e>
                                              </m:acc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tan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θ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54240" y="4465800"/>
                <a:ext cx="21621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54240" y="4998960"/>
                <a:ext cx="1635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254240" y="3828960"/>
                <a:ext cx="13730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552560" y="1603440"/>
            <a:ext cx="50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ed measurement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479840"/>
            <a:ext cx="51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. measurement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11520" y="4994280"/>
            <a:ext cx="28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lman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4680" y="553716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8440" y="604188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6320" y="297504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obian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.r.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5A3-9A29-48C3-86F2-A53829AB74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Prediction Step (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79480" y="1100160"/>
            <a:ext cx="766296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511-C45B-465B-89C9-C8BEC26D4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Correction Step (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36680" y="955800"/>
            <a:ext cx="6251400" cy="549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4B9-C5BC-4FF0-8CFB-AB6143CEB2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Prediction Step (un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95480" y="1247760"/>
            <a:ext cx="739440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E88-1E8D-4149-9E4B-324C39E3BD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6880" y="434160"/>
            <a:ext cx="86788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EKF Correction Step (unknown correspondences)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4600" y="973080"/>
            <a:ext cx="5806800" cy="56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79B-393D-4E5B-BF54-C7BB7FE3E7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2894040"/>
            <a:ext cx="841032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p of the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sensor measu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of the robot’s posi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Problem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 trac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loc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dnapped robot problem (recove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36720" y="1247760"/>
            <a:ext cx="7515000" cy="14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sensory information to locate the robot in its environment is the most fundamental problem to providing a mobile robot with autonomous capabilities.”                 [Cox ’9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F1D-31F7-4132-BD9E-BFA1BE7922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960" y="1136520"/>
            <a:ext cx="3321000" cy="264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65680" y="1136520"/>
            <a:ext cx="332100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07960" y="4060800"/>
            <a:ext cx="3321000" cy="26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765680" y="4060800"/>
            <a:ext cx="3321000" cy="26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946-D3B8-4667-8DBA-2F56B3590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Observation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91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17680" y="1093680"/>
            <a:ext cx="3350880" cy="2671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17680" y="4008600"/>
            <a:ext cx="3350880" cy="267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919760" y="4008600"/>
            <a:ext cx="3390840" cy="26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93E-EF3C-41EA-995E-6F2D5B23EE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9760" y="4008600"/>
            <a:ext cx="3390840" cy="267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898880" y="3978360"/>
            <a:ext cx="3337200" cy="266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889520" y="1136520"/>
            <a:ext cx="33368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E46-60D2-4CD6-8A8E-92206B7137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60" y="1741320"/>
            <a:ext cx="4410000" cy="3451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86400" y="1779480"/>
            <a:ext cx="441000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3EA-4123-422D-9A3B-EC6171E855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81360" y="1741320"/>
            <a:ext cx="4410360" cy="345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160" y="1731960"/>
            <a:ext cx="4410000" cy="34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6B4-5246-4A3A-AC09-06116925F5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1401840"/>
            <a:ext cx="6372360" cy="4986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parison to GroundTruth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43000" y="1401840"/>
            <a:ext cx="637236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8B3-B403-4F1B-9A48-E7E6B5980F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ver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nonlinearities are lar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 surprisingly well even when all assumptions are violated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690-9ED7-4857-B80E-00E8A3372F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inearization via 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19240" y="1301760"/>
            <a:ext cx="1820520" cy="2739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0DF-B9A3-4308-A120-4BAB50D7C0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317600"/>
            <a:ext cx="1790640" cy="2695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2C6-DFA9-4C06-BEBE-F14005A065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00160" y="1339920"/>
            <a:ext cx="1780920" cy="268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AF0-C4E6-45C6-8D02-C39B984270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5960" y="1639800"/>
            <a:ext cx="8293320" cy="35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BD6-8CCF-47E2-B884-F4FED2038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9440" y="1349280"/>
                <a:ext cx="88041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Σ</m:t>
                                    </m:r>
                                  </m:e>
                                </m:rad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fo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om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e k sendo iguais a parâmetros que determinam quã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tes os sigma points estão espalhados em relação a médi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601280" y="99864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ma points                               Weigh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0120" y="4367160"/>
                <a:ext cx="156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65200" y="5000760"/>
                <a:ext cx="34052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462040" y="447660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 sigma points through non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9560" y="5543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ver mean an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1FD-F8B6-4E27-81B4-196F878A81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UKF_loca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504800" y="1068480"/>
                <a:ext cx="3157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82520" y="1876320"/>
                <a:ext cx="1373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33560" y="2638440"/>
                <a:ext cx="2528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71720" y="3108240"/>
                <a:ext cx="20970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62000" y="4098960"/>
                <a:ext cx="4846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γ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</m:e>
                        </m:rad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γ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068480" y="4670280"/>
                <a:ext cx="2376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71720" y="5983200"/>
                <a:ext cx="3859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95480" y="5148360"/>
                <a:ext cx="1866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858920" y="116532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ion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85560" y="19843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1560" y="2527200"/>
            <a:ext cx="42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mented state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11480" y="3336840"/>
            <a:ext cx="41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men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18120" y="4175280"/>
            <a:ext cx="41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080" y="4641840"/>
            <a:ext cx="45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ion of 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10760" y="53370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34520" y="6156360"/>
            <a:ext cx="38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Predic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1D6-5972-43A0-8C59-D75BA80D4A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1280" y="217440"/>
            <a:ext cx="8532720" cy="64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UKF_loca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819000" y="1155600"/>
                <a:ext cx="1854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19000" y="1766880"/>
                <a:ext cx="1818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4515840" y="116532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Measurement sigma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52560" y="1955880"/>
            <a:ext cx="50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icted measurement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2920" y="2813040"/>
            <a:ext cx="51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d. measurement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9000" y="3736800"/>
            <a:ext cx="34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-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11520" y="4641840"/>
            <a:ext cx="28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lman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4680" y="533700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8440" y="615636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Update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19000" y="2652840"/>
                <a:ext cx="371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19000" y="3548160"/>
                <a:ext cx="394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χ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x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19000" y="4591080"/>
                <a:ext cx="18878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19000" y="5303880"/>
                <a:ext cx="2965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19000" y="6029280"/>
                <a:ext cx="25466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1A0-B17B-4C98-B0EB-27C00B0FF7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3360" y="960480"/>
            <a:ext cx="3440160" cy="2763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994280" y="960480"/>
            <a:ext cx="3441600" cy="2743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3360" y="3921120"/>
            <a:ext cx="3441600" cy="2743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994280" y="3921120"/>
            <a:ext cx="3440160" cy="276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169-D82C-4B95-A2EC-635FF04F5D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Observation Predi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933800" y="1019160"/>
            <a:ext cx="3438720" cy="2708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43040" y="101916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43040" y="4000680"/>
            <a:ext cx="3397320" cy="2707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4933800" y="4000680"/>
            <a:ext cx="3438720" cy="27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A3A-1A65-4D5B-AE2F-D1C6A0DC76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210280" y="100008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81200" y="1000080"/>
            <a:ext cx="3438360" cy="270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210280" y="3952800"/>
            <a:ext cx="3397320" cy="2708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81200" y="3952800"/>
            <a:ext cx="343836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7C-F351-4509-A672-93DEB39D10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Correction Step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09760" y="1093680"/>
            <a:ext cx="3390840" cy="2671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09760" y="4008600"/>
            <a:ext cx="3390840" cy="2671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898880" y="3978360"/>
            <a:ext cx="3337200" cy="2660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889520" y="1136520"/>
            <a:ext cx="3336840" cy="266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11A-FAFF-4D82-89AE-54841C03B0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43760" y="2305080"/>
            <a:ext cx="2693880" cy="210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81080" y="2305080"/>
            <a:ext cx="2693880" cy="2108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219480" y="2305080"/>
            <a:ext cx="2693880" cy="2108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50720" y="4835520"/>
            <a:ext cx="687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PF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724-0355-4D03-BCA1-851F84CFD0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010120" y="1620720"/>
            <a:ext cx="3921120" cy="3068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1080" y="1620720"/>
            <a:ext cx="3921120" cy="3068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stimation Sequ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010120" y="1620720"/>
            <a:ext cx="3921120" cy="3068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81080" y="1620720"/>
            <a:ext cx="3921120" cy="3068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973520" y="4835520"/>
            <a:ext cx="573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747-A194-488D-8173-66B2ACEEB8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ediction Qualit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653000" y="1898640"/>
            <a:ext cx="4325760" cy="3394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1889280"/>
            <a:ext cx="4325760" cy="339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00080" y="5445000"/>
            <a:ext cx="563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                               UK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BE9-2837-4E3A-A13F-05B2FF9D25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81120" y="1722600"/>
            <a:ext cx="312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on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17800" y="1041480"/>
            <a:ext cx="474660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959-3243-474F-A961-48806B11A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ame complexity as EKF, with a constant factor slower in typical practical app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Better linearization than EK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ccurate in first two terms of Taylor expansion (EKF only first ter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erivative-fre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Jacobian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till 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6E1-F06F-4329-BFC9-DEA9E82988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1041480"/>
            <a:ext cx="84139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rras et al. 98]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 range-finder and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recision (&lt;1cm 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-based Syste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2120" y="3390840"/>
            <a:ext cx="8742600" cy="271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651720" y="61657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ourtesy of Kai Arr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535-2290-4C0F-B1EE-6DDA6EBBC3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p-based 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63560" y="1246320"/>
            <a:ext cx="605016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2DB-1520-4540-9ECD-D4EF337B3C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960" y="1542960"/>
            <a:ext cx="8123400" cy="43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966-5450-420B-A47C-C7ABEA4BF9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Resampling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111320" y="639720"/>
            <a:ext cx="6424560" cy="4327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987480" y="4923000"/>
            <a:ext cx="6848280" cy="19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906-3BDA-4DCA-ACE4-9D7D08B38AC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38040" y="1430280"/>
            <a:ext cx="8516880" cy="36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408-4601-4E20-B04E-F5EF59571AB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57400" y="1662120"/>
            <a:ext cx="6708600" cy="1560240"/>
            <a:chOff x="1157400" y="1662120"/>
            <a:chExt cx="6708600" cy="1560240"/>
          </a:xfrm>
        </p:grpSpPr>
        <p:sp>
          <p:nvSpPr>
            <p:cNvPr id="303" name=""/>
            <p:cNvSpPr/>
            <p:nvPr/>
          </p:nvSpPr>
          <p:spPr>
            <a:xfrm>
              <a:off x="1157400" y="166212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normal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2971800" y="2324160"/>
              <a:ext cx="226080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1144440" y="43164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sample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867040" y="5025960"/>
            <a:ext cx="4222800" cy="66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E79-E182-4D45-9398-2703F0C7D50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71560" y="1282680"/>
            <a:ext cx="7601040" cy="50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783-D102-4F4A-92A1-E6096C635C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01480" y="1666800"/>
            <a:ext cx="795024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65E-BD63-4B8A-86FE-2516556C82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063880" y="1039680"/>
            <a:ext cx="5456160" cy="581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015-F473-425C-BD2E-620617577CB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11760" y="895320"/>
            <a:ext cx="446220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1120" y="1722600"/>
            <a:ext cx="3122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 lo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15D-91A6-4E98-8234-A0CC29AE39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8800" y="1457280"/>
            <a:ext cx="841716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FB9-8100-4CE0-9028-FCA897A9C7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119-83CD-4874-AE46-CCDE5BB2B7E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80F-6CB7-4F13-916B-32421B0F2A5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9F8-ABA8-4113-99C0-29F7FA0AE02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6D4-74FB-4512-A2F7-9EEC14313AA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A8D-A0E3-4D49-89DA-B3AA9C967FC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325-CC66-45E2-B282-8AC59980AA8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8E1-3CCB-4455-B1A0-69BC5354631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AC1-4468-4348-8D37-9AA3516ED54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77B-25F8-4432-B438-66C0F2D65BD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andmark-based Loc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95560" y="1798560"/>
            <a:ext cx="6629400" cy="35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FF5-2B16-4DE3-96BF-C620937093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C8B-E317-4659-B7DF-35BD90BCAA7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91B-AF40-4B61-835D-47ADA0ABE24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0A1-DDC1-4CAE-9B55-EC3D66B6A83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DBE-AAD9-452C-A8F4-09BBAB0A3F2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726-F4BF-4419-815A-4D82DFB0D48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318960"/>
            <a:ext cx="7619760" cy="622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AC4-31CC-437C-8EA0-096971CAF32A}" type="slidenum">
              <a:t>65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51080" y="1308240"/>
            <a:ext cx="6672240" cy="53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873-B46B-493A-B43C-F549EE51883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Monte Carlo (Particle Filter) Loc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28760" y="946080"/>
            <a:ext cx="4491000" cy="591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322-5F55-4E94-8110-2EAE5898984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25920" y="1098360"/>
            <a:ext cx="8425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Multi-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hypothesi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Track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816280" y="2054160"/>
            <a:ext cx="6280200" cy="1198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816280" y="5305320"/>
            <a:ext cx="6280200" cy="1198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816280" y="58680"/>
            <a:ext cx="6280200" cy="1935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2828880" y="3265560"/>
            <a:ext cx="6315120" cy="204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A0E-812C-4C04-ADF4-66DB02C0501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1041480"/>
            <a:ext cx="841392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s represented by multiple 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hypothesis is tracked by a Kalman fil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Additional probl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Data assoc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ich observation corresponds to which hypo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Hypothesis manag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n to add / delete hypoth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ge body of literature on target tracking, motion correspondence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alization With MH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F66-12D8-43A4-9A7C-694A275FC72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ity Assumption Revisite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00400" y="1317600"/>
            <a:ext cx="456228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BF8-22AE-4C95-968C-C4E50612F0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6880" y="251280"/>
            <a:ext cx="867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HT: Implemented System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375080" y="1098720"/>
            <a:ext cx="4633920" cy="5108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2095560"/>
            <a:ext cx="4229280" cy="3149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70640" y="654696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esy of P. Jensfelt and S. Kriste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CBE-28E2-454A-A2B3-A1CD99ACEFC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6880" y="32400"/>
            <a:ext cx="867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HT: Implemented System (3)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 ru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03040" y="1436760"/>
            <a:ext cx="4631040" cy="43894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959360" y="2470320"/>
            <a:ext cx="4057560" cy="3300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070280" y="583560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 and traj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46440" y="11113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# 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72720" y="583560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#hypotheses vs.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84040" y="1746360"/>
            <a:ext cx="106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bes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447880" y="1587600"/>
            <a:ext cx="135900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35760" y="2260440"/>
            <a:ext cx="508320" cy="143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0640" y="654696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esy of P. Jensfelt and S. Kriste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478-43FC-4F1B-A489-E20FAA44EA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linear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ACC-3CC3-4E6F-BAE8-92F8B2F5F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F1A-5EDF-420B-9B5F-8827AC68F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33:42Z</dcterms:created>
  <dc:creator/>
  <dc:description/>
  <dc:language>en-US</dc:language>
  <cp:lastModifiedBy>-</cp:lastModifiedBy>
  <dcterms:modified xsi:type="dcterms:W3CDTF">2011-09-01T22:05:52Z</dcterms:modified>
  <cp:revision>79</cp:revision>
  <dc:subject/>
  <dc:title>Introduction to  Mobile Robotics</dc:title>
</cp:coreProperties>
</file>